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B97D-886F-4F95-9968-93F5B6FDD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9711-6059-48AC-A76C-15BBD5537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6662-F91D-470E-AD58-3AC1E1EBB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AF5-24BD-4D43-A6BB-69D69B06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9DBA-4BDF-4EEF-B8BD-FC1EB083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60B-86D6-439A-9CB8-D3E81B93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FA4C-6043-4407-B2AE-015F0565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181-F7B5-4596-B092-EFC902E65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1D6B-568B-4725-B9A1-86E63A4A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C73-8965-4A18-B2E3-C0A70B45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5998-5EAD-4D58-BF21-3B9DCE0E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05CE-61C0-41FB-9372-9E30C5ED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D642-AB36-46B7-8155-952F1398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447920"/>
            <a:ext cx="7772400" cy="49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Y LOV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ULTURAL INDUSTRIES DEVELOPMENT SERVICE (CI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ed for targeted specialist business support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reative Indus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dy.lovatt@cids.co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137160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MANCHESTER FASH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ed to consolidate 80 SM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w Businesses and Mark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nk Universities with Indu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Network Meet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Industry Intelli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de Sh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Development Semin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ebsite – </a:t>
            </a: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www.manchesterfashio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1219320"/>
            <a:ext cx="883908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ty needs to understand the Creative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ve Industries need to understand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ty needs to invest in the right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ty needs to both support… and let g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 Partnerships of both Risk and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alth, Enterprise and Employment opportunities (6% GD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ote and Distinctive Modern Ide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portunities for Investment, Tourism &amp; International Tr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w sustainable Cultural Economy where educ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novation &amp; business will establish St. Petersburg as a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ty for the 2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entury.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29600" y="1371600"/>
            <a:ext cx="9457200" cy="5204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Manchester’s Cultural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Holistic View of Culture, Creativity, Economy and the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ive Priority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al Capi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e and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ulture for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Cultural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rketing 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Aim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“Maximise the direct and indirect benefits of the City’s  Cultu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conomy, its contribution to Manchester’s distinctive identity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 innovation in business and educatio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1371600"/>
            <a:ext cx="8839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6% of local GDP. £1bn per an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4000 SME’s. 35,000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rowing at twice the rate of mainstream economy (5% 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Objectiv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Development – Grow Creative and Cultural Busin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Trade &amp; Investment – Promote as location for Creative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Enterprise/Employment – Develop an environment for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reative Industries are different, micro, fluid, work to diffe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usiness models, rely heavily on risk, trust &amp; net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Logo" descr="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098960" y="1565280"/>
            <a:ext cx="183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19520" y="2990880"/>
            <a:ext cx="342900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3886200"/>
            <a:ext cx="2438280" cy="1676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5746680"/>
            <a:ext cx="5029200" cy="825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ENT CULTURAL 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33720" y="5136840"/>
            <a:ext cx="1371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562360" y="5136840"/>
            <a:ext cx="144756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352680" y="53658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5409720" y="536580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95680" y="3384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219320"/>
            <a:ext cx="868680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New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conomic development agency for Manchester’s Creative Enterpri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ermediary agency for cultural and economic development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057400" y="11494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320040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0" y="5284800"/>
            <a:ext cx="1905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/RE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0080" y="5284800"/>
            <a:ext cx="1600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200400"/>
            <a:ext cx="20574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10080" y="1073160"/>
            <a:ext cx="16765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 SUB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3352320" y="43704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368460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3684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370400"/>
            <a:ext cx="990720" cy="9144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28640" y="2084400"/>
            <a:ext cx="68580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4952880" y="2160720"/>
            <a:ext cx="685800" cy="761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Logo%20Swirl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1600200" cy="1219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756800" y="380880"/>
            <a:ext cx="5729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&amp; PARTNERSHIP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3520" y="16765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ALIST BUSINESS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ive Industries are differ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an economy of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risk and tru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create the right Busines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ercialisation of Intellectual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both Local and Glob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through Local and Global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livered by Industry Speci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1673280"/>
            <a:ext cx="75438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IDS CORE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siness Information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siness Start-Up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etwork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ustry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fessional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siness Development Program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national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24720" y="1438200"/>
            <a:ext cx="56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reative Enterprise Continu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9528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36232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50532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01028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72428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586728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8153280" y="533412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1866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rtnership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43200" y="3200400"/>
            <a:ext cx="1447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32004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934320" y="3200400"/>
            <a:ext cx="1371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057400"/>
            <a:ext cx="1524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4191120"/>
            <a:ext cx="1523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15120" y="434340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362320" y="380952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743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505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50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Log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DS supports and funds sub-sector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ic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m and TV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af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zz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otography Networ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Fashion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8T07:25:09Z</dcterms:created>
  <dc:creator>Andy Lovatt</dc:creator>
  <dc:description/>
  <dc:language>en-US</dc:language>
  <cp:lastModifiedBy>Andy Lovatt</cp:lastModifiedBy>
  <dcterms:modified xsi:type="dcterms:W3CDTF">2002-05-28T09:13:07Z</dcterms:modified>
  <cp:revision>1</cp:revision>
  <dc:subject/>
  <dc:title>PowerPoint Presentation</dc:title>
</cp:coreProperties>
</file>